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25.png" ContentType="image/png"/>
  <Override PartName="/ppt/media/image10.wmf" ContentType="image/x-wmf"/>
  <Override PartName="/ppt/media/image9.wmf" ContentType="image/x-wmf"/>
  <Override PartName="/ppt/media/image26.png" ContentType="image/png"/>
  <Override PartName="/ppt/media/image11.wmf" ContentType="image/x-wmf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4.wmf" ContentType="image/x-wmf"/>
  <Override PartName="/ppt/media/image29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65CDF3-4CBC-4270-859B-8F1241AFF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9940AD-B52A-4C1A-941B-B2DD019439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0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3"/>
          <p:cNvSpPr>
            <a:spLocks noGrp="1"/>
          </p:cNvSpPr>
          <p:nvPr>
            <p:ph type="body"/>
          </p:nvPr>
        </p:nvSpPr>
        <p:spPr>
          <a:xfrm>
            <a:off x="685440" y="4343760"/>
            <a:ext cx="5486760" cy="41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E2DF38-1DEF-409D-BF72-EECAE497FA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924120" y="685800"/>
            <a:ext cx="5009400" cy="34297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3"/>
          <p:cNvSpPr>
            <a:spLocks noGrp="1"/>
          </p:cNvSpPr>
          <p:nvPr>
            <p:ph type="body"/>
          </p:nvPr>
        </p:nvSpPr>
        <p:spPr>
          <a:xfrm>
            <a:off x="685440" y="4343760"/>
            <a:ext cx="5486760" cy="41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30351A-E3EB-4EA4-AC7F-2F67C4C4FF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0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685440" y="4343760"/>
            <a:ext cx="5486760" cy="41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B86-5CC5-460D-94B1-7DF938EB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D99-9275-4DAD-BB2F-466B3B93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CEC-71A2-4B4D-820E-7708A3D5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3B9-89FB-4BCA-B909-924BA5AA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784A-8D06-4E8F-977E-7F075A1F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74BF-51D7-4938-A31B-7C69D93F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1768-6E41-46F3-A98F-4749228C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A0BB-2FB4-420E-9E79-DF47663D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B51B-6715-49AF-962C-3673C73B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0E92-6E81-4D57-ABEE-2C4A6F52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CC6C-C0A9-42F6-9852-DCE44593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566-A57F-4E92-B0EF-D44E2AC7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D2D3-AAB2-487F-8FD8-401A9FA5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30AA-297C-4F10-BF92-BC34C626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D231-355E-4C6B-8223-59EBE42B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E035-397F-46E0-BA02-54836C31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35CC-23C9-4A10-9AD6-7BE24FC9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6D9-AE0C-4DF1-988E-315B9C13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A81-9507-4B15-9D0A-7377277C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B0D-24CA-456E-91C8-02E53AC4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46A-001D-493B-9B59-20559F56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6D2-399B-4E64-B44F-99504CE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B52-6C2D-4E19-A549-516D416D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0DD-B852-4D07-B38F-8937371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liknite sem a upravte štýl predlohy nadpiso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7D5CC0-877D-4549-B206-5CF7AD955E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liknite sem a upravte štýl predlohy nadpiso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liknite sem a upravte štýly predlohy tex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ruhá úrov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etia ú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tvrtá úrov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iata úrov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B6D9BD-195C-4E9A-AEE2-DCDE4C8F81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liknite sem a upravte štýl predlohy nadpiso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liknite sem a upravte štýly predlohy tex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ruhá úrov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etia ú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tvrtá úrov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iata úrov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liknite sem a upravte štýly predlohy tex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ruhá úrov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etia ú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tvrtá úrov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iata úrov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228600" y="6553080"/>
            <a:ext cx="1523520" cy="151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dt" idx="1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26"/>
          <p:cNvSpPr/>
          <p:nvPr/>
        </p:nvSpPr>
        <p:spPr>
          <a:xfrm>
            <a:off x="1676520" y="5181480"/>
            <a:ext cx="5346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hr-HR" sz="3200" spc="-1" strike="noStrike">
                <a:solidFill>
                  <a:srgbClr val="6699ff"/>
                </a:solidFill>
                <a:latin typeface="Trebuchet MS"/>
              </a:rPr>
              <a:t>Jana mineral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27" descr="D:\vedrana\Jana pics\jana_koso.jpg"/>
          <p:cNvPicPr/>
          <p:nvPr/>
        </p:nvPicPr>
        <p:blipFill>
          <a:blip r:embed="rId1"/>
          <a:stretch/>
        </p:blipFill>
        <p:spPr>
          <a:xfrm>
            <a:off x="1790640" y="76320"/>
            <a:ext cx="5557320" cy="43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53416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Arial"/>
              </a:rPr>
              <a:t>Jan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3399"/>
                </a:solidFill>
                <a:latin typeface="Arial"/>
              </a:rPr>
              <a:t>Prírodná minerálna voda nesýte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BlokTextu 3"/>
          <p:cNvSpPr/>
          <p:nvPr/>
        </p:nvSpPr>
        <p:spPr>
          <a:xfrm>
            <a:off x="380880" y="990720"/>
            <a:ext cx="83055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Prírodná minerálna voda nesýtená 5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Prírodná minerálna voda nesýtená 1,5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Prírodná minerálna voda nesýtená 0,5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Baby Prírodná minerálna voda nesýtená 0,75 L sk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Prírodná minerálna voda nesýtená 0,33 L sk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Baby Prírodná minerálna voda nesýtená 1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ázok 16" descr="jana_prirodnaizvorskavoda15l_95711.jpg"/>
          <p:cNvPicPr/>
          <p:nvPr/>
        </p:nvPicPr>
        <p:blipFill>
          <a:blip r:embed="rId1"/>
          <a:stretch/>
        </p:blipFill>
        <p:spPr>
          <a:xfrm>
            <a:off x="2286000" y="3276720"/>
            <a:ext cx="755280" cy="2917440"/>
          </a:xfrm>
          <a:prstGeom prst="rect">
            <a:avLst/>
          </a:prstGeom>
          <a:ln w="9525">
            <a:noFill/>
          </a:ln>
        </p:spPr>
      </p:pic>
      <p:pic>
        <p:nvPicPr>
          <p:cNvPr id="265" name="Obrázok 15" descr="5l_143232.jpg"/>
          <p:cNvPicPr/>
          <p:nvPr/>
        </p:nvPicPr>
        <p:blipFill>
          <a:blip r:embed="rId2"/>
          <a:stretch/>
        </p:blipFill>
        <p:spPr>
          <a:xfrm>
            <a:off x="380880" y="2971800"/>
            <a:ext cx="1634040" cy="3200040"/>
          </a:xfrm>
          <a:prstGeom prst="rect">
            <a:avLst/>
          </a:prstGeom>
          <a:ln w="9525">
            <a:noFill/>
          </a:ln>
        </p:spPr>
      </p:pic>
      <p:pic>
        <p:nvPicPr>
          <p:cNvPr id="266" name="Picture 6" descr="http://www.primaweb.hu/Images/Products/jana_baby_szensavmentes_asvanyviz_1l.jpg"/>
          <p:cNvPicPr/>
          <p:nvPr/>
        </p:nvPicPr>
        <p:blipFill>
          <a:blip r:embed="rId3"/>
          <a:srcRect l="25604" t="0" r="23200" b="0"/>
          <a:stretch/>
        </p:blipFill>
        <p:spPr>
          <a:xfrm>
            <a:off x="5715000" y="3505320"/>
            <a:ext cx="1335960" cy="2609640"/>
          </a:xfrm>
          <a:prstGeom prst="rect">
            <a:avLst/>
          </a:prstGeom>
          <a:ln w="9525">
            <a:noFill/>
          </a:ln>
        </p:spPr>
      </p:pic>
      <p:sp>
        <p:nvSpPr>
          <p:cNvPr id="267" name="BlokTextu 9"/>
          <p:cNvSpPr/>
          <p:nvPr/>
        </p:nvSpPr>
        <p:spPr>
          <a:xfrm>
            <a:off x="7086600" y="2362320"/>
            <a:ext cx="1828440" cy="420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Podľa skúšok Národného úradu pre verejné zdravie (OKI), oddelenia hygieny vody, Jana Baby môže byť podávaná tehotným ženám, dojčatám a deťom bez prevar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http://www.jamnica.hr/upload/tbl_t21a/jana_prirodnaizvorskavoda05l_95847.jpg"/>
          <p:cNvPicPr/>
          <p:nvPr/>
        </p:nvPicPr>
        <p:blipFill>
          <a:blip r:embed="rId4"/>
          <a:srcRect l="0" t="25614" r="0" b="0"/>
          <a:stretch/>
        </p:blipFill>
        <p:spPr>
          <a:xfrm>
            <a:off x="4114800" y="4038480"/>
            <a:ext cx="609120" cy="2091600"/>
          </a:xfrm>
          <a:prstGeom prst="rect">
            <a:avLst/>
          </a:prstGeom>
          <a:ln w="9525">
            <a:noFill/>
          </a:ln>
        </p:spPr>
      </p:pic>
      <p:pic>
        <p:nvPicPr>
          <p:cNvPr id="269" name="Picture 6" descr="http://www.jamnica.hr/upload/tbl_t21a/jana_prirodnaizvorskavoda033l_10110.jpg"/>
          <p:cNvPicPr/>
          <p:nvPr/>
        </p:nvPicPr>
        <p:blipFill>
          <a:blip r:embed="rId5"/>
          <a:srcRect l="0" t="27586" r="0" b="0"/>
          <a:stretch/>
        </p:blipFill>
        <p:spPr>
          <a:xfrm>
            <a:off x="5029200" y="4495680"/>
            <a:ext cx="387000" cy="1580760"/>
          </a:xfrm>
          <a:prstGeom prst="rect">
            <a:avLst/>
          </a:prstGeom>
          <a:ln w="9525">
            <a:noFill/>
          </a:ln>
        </p:spPr>
      </p:pic>
      <p:pic>
        <p:nvPicPr>
          <p:cNvPr id="270" name="Picture 8" descr="http://www.jamnica.hr/upload/tbl_t21a/jana_prirodnaizvorska075l_10040.jpg"/>
          <p:cNvPicPr/>
          <p:nvPr/>
        </p:nvPicPr>
        <p:blipFill>
          <a:blip r:embed="rId6"/>
          <a:srcRect l="0" t="13786" r="0" b="0"/>
          <a:stretch/>
        </p:blipFill>
        <p:spPr>
          <a:xfrm>
            <a:off x="3276720" y="3809880"/>
            <a:ext cx="609120" cy="234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Arial"/>
              </a:rPr>
              <a:t>Jan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3399"/>
                </a:solidFill>
                <a:latin typeface="Arial"/>
              </a:rPr>
              <a:t>Prírodná minerálna voda ochute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BlokTextu 3"/>
          <p:cNvSpPr/>
          <p:nvPr/>
        </p:nvSpPr>
        <p:spPr>
          <a:xfrm>
            <a:off x="304920" y="1523880"/>
            <a:ext cx="48765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čučoriedka - brusnica 1,5 L a 0,5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jahoda - guava 1,5 L a 0,5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citrón - limetka 1,5 L a 0,5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pomaranč - papája 1,5 L  a 0,5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rázok 10" descr="jana_borovnicabrusnica15l_10438.jpg"/>
          <p:cNvPicPr/>
          <p:nvPr/>
        </p:nvPicPr>
        <p:blipFill>
          <a:blip r:embed="rId1"/>
          <a:stretch/>
        </p:blipFill>
        <p:spPr>
          <a:xfrm>
            <a:off x="6324480" y="380880"/>
            <a:ext cx="760680" cy="2866320"/>
          </a:xfrm>
          <a:prstGeom prst="rect">
            <a:avLst/>
          </a:prstGeom>
          <a:ln w="9525">
            <a:noFill/>
          </a:ln>
        </p:spPr>
      </p:pic>
      <p:pic>
        <p:nvPicPr>
          <p:cNvPr id="274" name="Obrázok 13" descr="jana_jagodaguava15l_10552.jpg"/>
          <p:cNvPicPr/>
          <p:nvPr/>
        </p:nvPicPr>
        <p:blipFill>
          <a:blip r:embed="rId2"/>
          <a:stretch/>
        </p:blipFill>
        <p:spPr>
          <a:xfrm>
            <a:off x="7238880" y="380880"/>
            <a:ext cx="748800" cy="2868840"/>
          </a:xfrm>
          <a:prstGeom prst="rect">
            <a:avLst/>
          </a:prstGeom>
          <a:ln w="9525">
            <a:noFill/>
          </a:ln>
        </p:spPr>
      </p:pic>
      <p:sp>
        <p:nvSpPr>
          <p:cNvPr id="275" name="BlokTextu 11"/>
          <p:cNvSpPr/>
          <p:nvPr/>
        </p:nvSpPr>
        <p:spPr>
          <a:xfrm>
            <a:off x="4648320" y="3733920"/>
            <a:ext cx="4190760" cy="264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</a:pP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vyrobené asepticky - najvyššia kval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</a:pP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so zníženou energetickou hodnotou –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    </a:t>
            </a: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so zníženým obsahom cuk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</a:pP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bez konzervačných lá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</a:pP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bez umelých farbí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</a:pP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bez umelých sladidi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</a:pP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99ccff"/>
                </a:solidFill>
                <a:latin typeface="Arial"/>
              </a:rPr>
              <a:t>bez umelých aró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Obrázok 8" descr="jana_limunlimeta15l_10139.jpg"/>
          <p:cNvPicPr/>
          <p:nvPr/>
        </p:nvPicPr>
        <p:blipFill>
          <a:blip r:embed="rId3"/>
          <a:stretch/>
        </p:blipFill>
        <p:spPr>
          <a:xfrm>
            <a:off x="1219320" y="3429000"/>
            <a:ext cx="753480" cy="286884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4" descr="http://www.she.hr/UserDocsImages/zdravlje/Jana%20aroma%20NARANCA-PAPAJA%201,5l.jpg"/>
          <p:cNvPicPr/>
          <p:nvPr/>
        </p:nvPicPr>
        <p:blipFill>
          <a:blip r:embed="rId4"/>
          <a:stretch/>
        </p:blipFill>
        <p:spPr>
          <a:xfrm>
            <a:off x="2209680" y="3505320"/>
            <a:ext cx="931680" cy="2781000"/>
          </a:xfrm>
          <a:prstGeom prst="rect">
            <a:avLst/>
          </a:prstGeom>
          <a:ln w="9525">
            <a:noFill/>
          </a:ln>
        </p:spPr>
      </p:pic>
      <p:pic>
        <p:nvPicPr>
          <p:cNvPr id="278" name="Picture 2" descr="http://www.jamnica.hr/upload/tbl_t21a/jana_limunlimeta05l_1026.jpg"/>
          <p:cNvPicPr/>
          <p:nvPr/>
        </p:nvPicPr>
        <p:blipFill>
          <a:blip r:embed="rId5"/>
          <a:srcRect l="0" t="31529" r="0" b="0"/>
          <a:stretch/>
        </p:blipFill>
        <p:spPr>
          <a:xfrm>
            <a:off x="380880" y="4191120"/>
            <a:ext cx="617760" cy="2095560"/>
          </a:xfrm>
          <a:prstGeom prst="rect">
            <a:avLst/>
          </a:prstGeom>
          <a:ln w="9525">
            <a:noFill/>
          </a:ln>
        </p:spPr>
      </p:pic>
      <p:pic>
        <p:nvPicPr>
          <p:cNvPr id="279" name="Picture 4" descr="http://www.jamnica.hr/upload/tbl_t21a/jana_borovnicabrusnica05l_10459.jpg"/>
          <p:cNvPicPr/>
          <p:nvPr/>
        </p:nvPicPr>
        <p:blipFill>
          <a:blip r:embed="rId6"/>
          <a:srcRect l="0" t="29552" r="0" b="0"/>
          <a:stretch/>
        </p:blipFill>
        <p:spPr>
          <a:xfrm>
            <a:off x="5486400" y="1066680"/>
            <a:ext cx="625320" cy="2156040"/>
          </a:xfrm>
          <a:prstGeom prst="rect">
            <a:avLst/>
          </a:prstGeom>
          <a:ln w="9525">
            <a:noFill/>
          </a:ln>
        </p:spPr>
      </p:pic>
      <p:pic>
        <p:nvPicPr>
          <p:cNvPr id="280" name="Picture 6" descr="http://www.jamnica.hr/upload/tbl_t21a/jana_jagodaguava05l_10611.jpg"/>
          <p:cNvPicPr/>
          <p:nvPr/>
        </p:nvPicPr>
        <p:blipFill>
          <a:blip r:embed="rId7"/>
          <a:srcRect l="0" t="29552" r="0" b="0"/>
          <a:stretch/>
        </p:blipFill>
        <p:spPr>
          <a:xfrm>
            <a:off x="8305920" y="1066680"/>
            <a:ext cx="617760" cy="2156040"/>
          </a:xfrm>
          <a:prstGeom prst="rect">
            <a:avLst/>
          </a:prstGeom>
          <a:ln w="9525">
            <a:noFill/>
          </a:ln>
        </p:spPr>
      </p:pic>
      <p:pic>
        <p:nvPicPr>
          <p:cNvPr id="281" name="Picture 8" descr="http://www.jatrgovac.com/usdocs/jana-aroma-naranca-papaja-05l.jpg"/>
          <p:cNvPicPr/>
          <p:nvPr/>
        </p:nvPicPr>
        <p:blipFill>
          <a:blip r:embed="rId8"/>
          <a:stretch/>
        </p:blipFill>
        <p:spPr>
          <a:xfrm>
            <a:off x="3352680" y="4267080"/>
            <a:ext cx="644400" cy="2025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53416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Arial"/>
              </a:rPr>
              <a:t>Jan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99"/>
                </a:solidFill>
                <a:latin typeface="Arial"/>
              </a:rPr>
              <a:t>Prírodné minerálne vody – logistické ú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Tabuľka 5"/>
          <p:cNvGraphicFramePr/>
          <p:nvPr/>
        </p:nvGraphicFramePr>
        <p:xfrm>
          <a:off x="304920" y="1371600"/>
          <a:ext cx="8495640" cy="5112360"/>
        </p:xfrm>
        <a:graphic>
          <a:graphicData uri="http://schemas.openxmlformats.org/drawingml/2006/table">
            <a:tbl>
              <a:tblPr/>
              <a:tblGrid>
                <a:gridCol w="3380040"/>
                <a:gridCol w="1552680"/>
                <a:gridCol w="1096200"/>
                <a:gridCol w="1318320"/>
                <a:gridCol w="1148040"/>
              </a:tblGrid>
              <a:tr h="2314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N 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s/bal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./pale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s/pale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8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v-SE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</a:t>
                      </a: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 </a:t>
                      </a:r>
                      <a:r>
                        <a:rPr b="0" lang="sv-SE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</a:t>
                      </a: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í</a:t>
                      </a:r>
                      <a:r>
                        <a:rPr b="0" lang="sv-SE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dn</a:t>
                      </a: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á</a:t>
                      </a:r>
                      <a:r>
                        <a:rPr b="0" lang="sv-SE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inerálna</a:t>
                      </a:r>
                      <a:r>
                        <a:rPr b="0" lang="sv-SE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voda  5 </a:t>
                      </a: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prírodná minerálna voda 1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prírodná minerálna voda 0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3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prírodná minerálna voda 0,33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prírodná minerálna voda 0,7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Baby prírodná minerálna voda  1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citrón limetka 1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3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citrón limetka 0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čučoriedka brusnica 1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4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čučoriedka brusnica 0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jahoda guava 1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4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jahoda guava 0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4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pomaranč papája 1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5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NA pomaranč papája 0,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88846055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1440" rIns="1440" tIns="1440" bIns="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" marR="144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dt" idx="16"/>
          </p:nvPr>
        </p:nvSpPr>
        <p:spPr>
          <a:xfrm>
            <a:off x="228600" y="6553080"/>
            <a:ext cx="1523520" cy="151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599724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hr-HR" sz="2000" spc="-1" strike="noStrike">
                <a:solidFill>
                  <a:srgbClr val="6699ff"/>
                </a:solidFill>
                <a:latin typeface="Trebuchet MS"/>
              </a:rPr>
              <a:t>JANA</a:t>
            </a:r>
            <a:r>
              <a:rPr b="1" lang="hr-H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hr-HR" sz="2000" spc="-1" strike="noStrike">
                <a:solidFill>
                  <a:srgbClr val="6699ff"/>
                </a:solidFill>
                <a:latin typeface="Trebuchet MS"/>
              </a:rPr>
              <a:t>– 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250920" y="1052640"/>
            <a:ext cx="3182400" cy="516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hr-HR" sz="1600" spc="-1" strike="noStrike">
                <a:solidFill>
                  <a:srgbClr val="000000"/>
                </a:solidFill>
                <a:latin typeface="Trebuchet MS"/>
              </a:rPr>
              <a:t>EXPORT MARKE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SLOV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BOSNIA&amp;HERZ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SERB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MONTE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HUNG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PORTUG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UNITED ST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GERMAN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SINGA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KO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ceo svet"/>
          <p:cNvPicPr/>
          <p:nvPr/>
        </p:nvPicPr>
        <p:blipFill>
          <a:blip r:embed="rId1"/>
          <a:stretch/>
        </p:blipFill>
        <p:spPr>
          <a:xfrm>
            <a:off x="1835280" y="2112840"/>
            <a:ext cx="7057800" cy="37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400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Arial"/>
              </a:rPr>
              <a:t>Jan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99"/>
                </a:solidFill>
                <a:latin typeface="Arial"/>
              </a:rPr>
              <a:t>Prírodná minerálna 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BlokTextu 3"/>
          <p:cNvSpPr/>
          <p:nvPr/>
        </p:nvSpPr>
        <p:spPr>
          <a:xfrm>
            <a:off x="457200" y="1295280"/>
            <a:ext cx="838152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Prírodná minerálna voda Jana je produktom chorvátskej spoločnosti Jam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d.d. – najväčšieho producenta minerálnych vôd v regióne s dlhodob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tradíciou na trhu, predstavujúcou viac ako 175 rokov. Jej podiel na tr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minerálnych vôd v Chorvátsku predstavuje viac ako 8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Jana je voda s najlepšou chuťou v Európe - ohodnotená ako „Highes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Qual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Spĺňa najprísnejšie požiadavky na zdravotnú bezpečnosť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Dôkazom jej jedinečnej kvality, ktorá je uznávaná po celom svete je a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ocenenie EAUSCAR za najlepšiu minerálnu vodou na veľtrhu Aqua-Ex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2005 v Paríž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\\192.168.24.46\marketing$\Useri\Tihana\EauScar-roto.jpg"/>
          <p:cNvPicPr/>
          <p:nvPr/>
        </p:nvPicPr>
        <p:blipFill>
          <a:blip r:embed="rId1"/>
          <a:stretch/>
        </p:blipFill>
        <p:spPr>
          <a:xfrm>
            <a:off x="609480" y="5105520"/>
            <a:ext cx="1828440" cy="147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D:\vedrana\Logotipovi\jana\certifikati\eau.jpg"/>
          <p:cNvPicPr/>
          <p:nvPr/>
        </p:nvPicPr>
        <p:blipFill>
          <a:blip r:embed="rId2"/>
          <a:stretch/>
        </p:blipFill>
        <p:spPr>
          <a:xfrm>
            <a:off x="2743200" y="518148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5181480" y="5105520"/>
            <a:ext cx="1319040" cy="12060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http://www.fresenius.com/filestore/qualitaetssiegel21.gif"/>
          <p:cNvPicPr/>
          <p:nvPr/>
        </p:nvPicPr>
        <p:blipFill>
          <a:blip r:embed="rId4"/>
          <a:stretch/>
        </p:blipFill>
        <p:spPr>
          <a:xfrm>
            <a:off x="6858000" y="4952880"/>
            <a:ext cx="1446840" cy="144900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8" descr="D:\vedrana\BWW\ITQI-Award3-2006HR.JPG"/>
          <p:cNvPicPr/>
          <p:nvPr/>
        </p:nvPicPr>
        <p:blipFill>
          <a:blip r:embed="rId5"/>
          <a:stretch/>
        </p:blipFill>
        <p:spPr>
          <a:xfrm>
            <a:off x="4041360" y="4800600"/>
            <a:ext cx="986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12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Jana</a:t>
            </a:r>
            <a:r>
              <a:rPr b="0" lang="sk-SK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k-SK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3399"/>
                </a:solidFill>
                <a:latin typeface="Arial"/>
              </a:rPr>
              <a:t>- Tisíce rokov chránená v prírodnom nedotknutom zdroji (histó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BlokTextu 3"/>
          <p:cNvSpPr/>
          <p:nvPr/>
        </p:nvSpPr>
        <p:spPr>
          <a:xfrm>
            <a:off x="380880" y="1143000"/>
            <a:ext cx="84578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36000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Jana je 100% prírodná minerálna voda s výnimočným, nezameniteľný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vyváženým minerálnym zložením, ktoré z nej robí jednu z najlepš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prírodných minerálnych vôd na Z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Tisíce rokov chránená v jej nedotknutom zdroji, Jana voľne vyviera z hĺb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800 m pod zemským povrchom zo srdca pohoria Sv. Jany pri Jadransk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mo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6000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Počas jej dlhej cesty na povrch je prírodne obohatená o minerály, najmä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vápnik a horčí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6000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Jana Prírodná minerálna voda je ideálna pre udržanie vitality te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občerstvenie po celý deň pri akejkoľvek činno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60000" algn="just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Vzhľadom na nízky obsah sodíka spĺňa požiadavky na výživu s nízky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b0f0"/>
                </a:solidFill>
                <a:latin typeface="Arial"/>
              </a:rPr>
              <a:t>obsahom so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28" descr="flower2"/>
          <p:cNvPicPr/>
          <p:nvPr/>
        </p:nvPicPr>
        <p:blipFill>
          <a:blip r:embed="rId1"/>
          <a:stretch/>
        </p:blipFill>
        <p:spPr>
          <a:xfrm>
            <a:off x="7857360" y="5257800"/>
            <a:ext cx="1286280" cy="15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52280" y="228600"/>
            <a:ext cx="599724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hr-HR" sz="2800" spc="-1" strike="noStrike">
                <a:solidFill>
                  <a:srgbClr val="ff0000"/>
                </a:solidFill>
                <a:latin typeface="Trebuchet MS"/>
              </a:rPr>
              <a:t>Jana </a:t>
            </a:r>
            <a:r>
              <a:rPr b="1" lang="hr-HR" sz="2800" spc="-1" strike="noStrike">
                <a:solidFill>
                  <a:srgbClr val="6699ff"/>
                </a:solidFill>
                <a:latin typeface="Trebuchet MS"/>
              </a:rPr>
              <a:t>~ Composed by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90"/>
          <p:cNvGrpSpPr/>
          <p:nvPr/>
        </p:nvGrpSpPr>
        <p:grpSpPr>
          <a:xfrm>
            <a:off x="380880" y="1447920"/>
            <a:ext cx="3809520" cy="4495320"/>
            <a:chOff x="380880" y="1447920"/>
            <a:chExt cx="3809520" cy="4495320"/>
          </a:xfrm>
        </p:grpSpPr>
        <p:grpSp>
          <p:nvGrpSpPr>
            <p:cNvPr id="144" name="Group 188"/>
            <p:cNvGrpSpPr/>
            <p:nvPr/>
          </p:nvGrpSpPr>
          <p:grpSpPr>
            <a:xfrm>
              <a:off x="387360" y="1450440"/>
              <a:ext cx="3797280" cy="4489920"/>
              <a:chOff x="387360" y="1450440"/>
              <a:chExt cx="3797280" cy="4489920"/>
            </a:xfrm>
          </p:grpSpPr>
          <p:grpSp>
            <p:nvGrpSpPr>
              <p:cNvPr id="145" name="Group 123"/>
              <p:cNvGrpSpPr/>
              <p:nvPr/>
            </p:nvGrpSpPr>
            <p:grpSpPr>
              <a:xfrm>
                <a:off x="387360" y="1450440"/>
                <a:ext cx="2038680" cy="414360"/>
                <a:chOff x="387360" y="1450440"/>
                <a:chExt cx="2038680" cy="414360"/>
              </a:xfrm>
            </p:grpSpPr>
            <p:sp>
              <p:nvSpPr>
                <p:cNvPr id="146" name="Rectangle 122"/>
                <p:cNvSpPr/>
                <p:nvPr/>
              </p:nvSpPr>
              <p:spPr>
                <a:xfrm>
                  <a:off x="387360" y="1450440"/>
                  <a:ext cx="203868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Group 121"/>
                <p:cNvGrpSpPr/>
                <p:nvPr/>
              </p:nvGrpSpPr>
              <p:grpSpPr>
                <a:xfrm>
                  <a:off x="387360" y="1450440"/>
                  <a:ext cx="2038680" cy="414360"/>
                  <a:chOff x="387360" y="1450440"/>
                  <a:chExt cx="2038680" cy="414360"/>
                </a:xfrm>
              </p:grpSpPr>
              <p:sp>
                <p:nvSpPr>
                  <p:cNvPr id="148" name="Rectangle 98"/>
                  <p:cNvSpPr/>
                  <p:nvPr/>
                </p:nvSpPr>
                <p:spPr>
                  <a:xfrm>
                    <a:off x="387360" y="1450440"/>
                    <a:ext cx="203868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 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Calcium (Ca</a:t>
                    </a:r>
                    <a:r>
                      <a:rPr b="1" lang="en-GB" sz="1000" spc="-1" strike="noStrike" baseline="30000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++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120"/>
                  <p:cNvSpPr/>
                  <p:nvPr/>
                </p:nvSpPr>
                <p:spPr>
                  <a:xfrm>
                    <a:off x="387360" y="1450440"/>
                    <a:ext cx="203868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" name="Group 127"/>
              <p:cNvGrpSpPr/>
              <p:nvPr/>
            </p:nvGrpSpPr>
            <p:grpSpPr>
              <a:xfrm>
                <a:off x="2426400" y="1450440"/>
                <a:ext cx="1758240" cy="414360"/>
                <a:chOff x="2426400" y="1450440"/>
                <a:chExt cx="1758240" cy="414360"/>
              </a:xfrm>
            </p:grpSpPr>
            <p:sp>
              <p:nvSpPr>
                <p:cNvPr id="151" name="Rectangle 126"/>
                <p:cNvSpPr/>
                <p:nvPr/>
              </p:nvSpPr>
              <p:spPr>
                <a:xfrm>
                  <a:off x="2426400" y="1450440"/>
                  <a:ext cx="175824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" name="Group 125"/>
                <p:cNvGrpSpPr/>
                <p:nvPr/>
              </p:nvGrpSpPr>
              <p:grpSpPr>
                <a:xfrm>
                  <a:off x="2426400" y="1450440"/>
                  <a:ext cx="1758240" cy="414360"/>
                  <a:chOff x="2426400" y="1450440"/>
                  <a:chExt cx="1758240" cy="414360"/>
                </a:xfrm>
              </p:grpSpPr>
              <p:sp>
                <p:nvSpPr>
                  <p:cNvPr id="153" name="Rectangle 99"/>
                  <p:cNvSpPr/>
                  <p:nvPr/>
                </p:nvSpPr>
                <p:spPr>
                  <a:xfrm>
                    <a:off x="2426400" y="1450440"/>
                    <a:ext cx="175824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63           mg/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tangle 124"/>
                  <p:cNvSpPr/>
                  <p:nvPr/>
                </p:nvSpPr>
                <p:spPr>
                  <a:xfrm>
                    <a:off x="2426400" y="1450440"/>
                    <a:ext cx="175824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" name="Group 129"/>
              <p:cNvGrpSpPr/>
              <p:nvPr/>
            </p:nvGrpSpPr>
            <p:grpSpPr>
              <a:xfrm>
                <a:off x="387360" y="1865520"/>
                <a:ext cx="2038680" cy="414360"/>
                <a:chOff x="387360" y="1865520"/>
                <a:chExt cx="2038680" cy="414360"/>
              </a:xfrm>
            </p:grpSpPr>
            <p:sp>
              <p:nvSpPr>
                <p:cNvPr id="156" name="Rectangle 100"/>
                <p:cNvSpPr/>
                <p:nvPr/>
              </p:nvSpPr>
              <p:spPr>
                <a:xfrm>
                  <a:off x="387360" y="1865520"/>
                  <a:ext cx="203868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Magnesium (Mg</a:t>
                  </a:r>
                  <a:r>
                    <a:rPr b="1" lang="en-GB" sz="1000" spc="-1" strike="noStrike" baseline="30000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++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28"/>
                <p:cNvSpPr/>
                <p:nvPr/>
              </p:nvSpPr>
              <p:spPr>
                <a:xfrm>
                  <a:off x="387360" y="1865520"/>
                  <a:ext cx="203868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31"/>
              <p:cNvGrpSpPr/>
              <p:nvPr/>
            </p:nvGrpSpPr>
            <p:grpSpPr>
              <a:xfrm>
                <a:off x="2426400" y="1865520"/>
                <a:ext cx="1758240" cy="414360"/>
                <a:chOff x="2426400" y="1865520"/>
                <a:chExt cx="1758240" cy="414360"/>
              </a:xfrm>
            </p:grpSpPr>
            <p:sp>
              <p:nvSpPr>
                <p:cNvPr id="159" name="Rectangle 101"/>
                <p:cNvSpPr/>
                <p:nvPr/>
              </p:nvSpPr>
              <p:spPr>
                <a:xfrm>
                  <a:off x="2426400" y="1865520"/>
                  <a:ext cx="175824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32.5        mg/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130"/>
                <p:cNvSpPr/>
                <p:nvPr/>
              </p:nvSpPr>
              <p:spPr>
                <a:xfrm>
                  <a:off x="2426400" y="1865520"/>
                  <a:ext cx="175824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35"/>
              <p:cNvGrpSpPr/>
              <p:nvPr/>
            </p:nvGrpSpPr>
            <p:grpSpPr>
              <a:xfrm>
                <a:off x="387360" y="2280240"/>
                <a:ext cx="2038680" cy="414360"/>
                <a:chOff x="387360" y="2280240"/>
                <a:chExt cx="2038680" cy="414360"/>
              </a:xfrm>
            </p:grpSpPr>
            <p:sp>
              <p:nvSpPr>
                <p:cNvPr id="162" name="Rectangle 134"/>
                <p:cNvSpPr/>
                <p:nvPr/>
              </p:nvSpPr>
              <p:spPr>
                <a:xfrm>
                  <a:off x="387360" y="2280240"/>
                  <a:ext cx="203868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Group 133"/>
                <p:cNvGrpSpPr/>
                <p:nvPr/>
              </p:nvGrpSpPr>
              <p:grpSpPr>
                <a:xfrm>
                  <a:off x="387360" y="2280240"/>
                  <a:ext cx="2038680" cy="414360"/>
                  <a:chOff x="387360" y="2280240"/>
                  <a:chExt cx="2038680" cy="414360"/>
                </a:xfrm>
              </p:grpSpPr>
              <p:sp>
                <p:nvSpPr>
                  <p:cNvPr id="164" name="Rectangle 102"/>
                  <p:cNvSpPr/>
                  <p:nvPr/>
                </p:nvSpPr>
                <p:spPr>
                  <a:xfrm>
                    <a:off x="387360" y="2280240"/>
                    <a:ext cx="203868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 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Sodium (Na</a:t>
                    </a:r>
                    <a:r>
                      <a:rPr b="1" lang="en-GB" sz="1000" spc="-1" strike="noStrike" baseline="30000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+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Rectangle 132"/>
                  <p:cNvSpPr/>
                  <p:nvPr/>
                </p:nvSpPr>
                <p:spPr>
                  <a:xfrm>
                    <a:off x="387360" y="2280240"/>
                    <a:ext cx="203868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" name="Group 139"/>
              <p:cNvGrpSpPr/>
              <p:nvPr/>
            </p:nvGrpSpPr>
            <p:grpSpPr>
              <a:xfrm>
                <a:off x="2426400" y="2280240"/>
                <a:ext cx="1758240" cy="414360"/>
                <a:chOff x="2426400" y="2280240"/>
                <a:chExt cx="1758240" cy="414360"/>
              </a:xfrm>
            </p:grpSpPr>
            <p:sp>
              <p:nvSpPr>
                <p:cNvPr id="167" name="Rectangle 138"/>
                <p:cNvSpPr/>
                <p:nvPr/>
              </p:nvSpPr>
              <p:spPr>
                <a:xfrm>
                  <a:off x="2426400" y="2280240"/>
                  <a:ext cx="175824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37"/>
                <p:cNvGrpSpPr/>
                <p:nvPr/>
              </p:nvGrpSpPr>
              <p:grpSpPr>
                <a:xfrm>
                  <a:off x="2426400" y="2280240"/>
                  <a:ext cx="1758240" cy="414360"/>
                  <a:chOff x="2426400" y="2280240"/>
                  <a:chExt cx="1758240" cy="414360"/>
                </a:xfrm>
              </p:grpSpPr>
              <p:sp>
                <p:nvSpPr>
                  <p:cNvPr id="169" name="Rectangle 103"/>
                  <p:cNvSpPr/>
                  <p:nvPr/>
                </p:nvSpPr>
                <p:spPr>
                  <a:xfrm>
                    <a:off x="2426400" y="2280240"/>
                    <a:ext cx="175824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2.2          mg/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136"/>
                  <p:cNvSpPr/>
                  <p:nvPr/>
                </p:nvSpPr>
                <p:spPr>
                  <a:xfrm>
                    <a:off x="2426400" y="2280240"/>
                    <a:ext cx="175824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Group 141"/>
              <p:cNvGrpSpPr/>
              <p:nvPr/>
            </p:nvGrpSpPr>
            <p:grpSpPr>
              <a:xfrm>
                <a:off x="387360" y="2694960"/>
                <a:ext cx="2038680" cy="414360"/>
                <a:chOff x="387360" y="2694960"/>
                <a:chExt cx="2038680" cy="414360"/>
              </a:xfrm>
            </p:grpSpPr>
            <p:sp>
              <p:nvSpPr>
                <p:cNvPr id="172" name="Rectangle 104"/>
                <p:cNvSpPr/>
                <p:nvPr/>
              </p:nvSpPr>
              <p:spPr>
                <a:xfrm>
                  <a:off x="387360" y="2694960"/>
                  <a:ext cx="203868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Potassium (K</a:t>
                  </a:r>
                  <a:r>
                    <a:rPr b="1" lang="en-GB" sz="1000" spc="-1" strike="noStrike" baseline="30000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+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40"/>
                <p:cNvSpPr/>
                <p:nvPr/>
              </p:nvSpPr>
              <p:spPr>
                <a:xfrm>
                  <a:off x="387360" y="2694960"/>
                  <a:ext cx="203868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43"/>
              <p:cNvGrpSpPr/>
              <p:nvPr/>
            </p:nvGrpSpPr>
            <p:grpSpPr>
              <a:xfrm>
                <a:off x="2426400" y="2694960"/>
                <a:ext cx="1758240" cy="414360"/>
                <a:chOff x="2426400" y="2694960"/>
                <a:chExt cx="1758240" cy="414360"/>
              </a:xfrm>
            </p:grpSpPr>
            <p:sp>
              <p:nvSpPr>
                <p:cNvPr id="175" name="Rectangle 105"/>
                <p:cNvSpPr/>
                <p:nvPr/>
              </p:nvSpPr>
              <p:spPr>
                <a:xfrm>
                  <a:off x="2426400" y="2694960"/>
                  <a:ext cx="175824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0.8          mg/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42"/>
                <p:cNvSpPr/>
                <p:nvPr/>
              </p:nvSpPr>
              <p:spPr>
                <a:xfrm>
                  <a:off x="2426400" y="2694960"/>
                  <a:ext cx="175824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47"/>
              <p:cNvGrpSpPr/>
              <p:nvPr/>
            </p:nvGrpSpPr>
            <p:grpSpPr>
              <a:xfrm>
                <a:off x="387360" y="3109680"/>
                <a:ext cx="2038680" cy="414360"/>
                <a:chOff x="387360" y="3109680"/>
                <a:chExt cx="2038680" cy="414360"/>
              </a:xfrm>
            </p:grpSpPr>
            <p:sp>
              <p:nvSpPr>
                <p:cNvPr id="178" name="Rectangle 146"/>
                <p:cNvSpPr/>
                <p:nvPr/>
              </p:nvSpPr>
              <p:spPr>
                <a:xfrm>
                  <a:off x="387360" y="3109680"/>
                  <a:ext cx="203868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Group 145"/>
                <p:cNvGrpSpPr/>
                <p:nvPr/>
              </p:nvGrpSpPr>
              <p:grpSpPr>
                <a:xfrm>
                  <a:off x="387360" y="3109680"/>
                  <a:ext cx="2038680" cy="414360"/>
                  <a:chOff x="387360" y="3109680"/>
                  <a:chExt cx="2038680" cy="414360"/>
                </a:xfrm>
              </p:grpSpPr>
              <p:sp>
                <p:nvSpPr>
                  <p:cNvPr id="180" name="Rectangle 106"/>
                  <p:cNvSpPr/>
                  <p:nvPr/>
                </p:nvSpPr>
                <p:spPr>
                  <a:xfrm>
                    <a:off x="387360" y="3109680"/>
                    <a:ext cx="203868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 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Bicarbonate (HCO</a:t>
                    </a:r>
                    <a:r>
                      <a:rPr b="1" lang="en-GB" sz="1000" spc="-1" strike="noStrike" baseline="-30000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3</a:t>
                    </a:r>
                    <a:r>
                      <a:rPr b="1" lang="en-GB" sz="1000" spc="-1" strike="noStrike" baseline="30000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-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144"/>
                  <p:cNvSpPr/>
                  <p:nvPr/>
                </p:nvSpPr>
                <p:spPr>
                  <a:xfrm>
                    <a:off x="387360" y="3109680"/>
                    <a:ext cx="203868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Group 151"/>
              <p:cNvGrpSpPr/>
              <p:nvPr/>
            </p:nvGrpSpPr>
            <p:grpSpPr>
              <a:xfrm>
                <a:off x="2426400" y="3109680"/>
                <a:ext cx="1758240" cy="414360"/>
                <a:chOff x="2426400" y="3109680"/>
                <a:chExt cx="1758240" cy="414360"/>
              </a:xfrm>
            </p:grpSpPr>
            <p:sp>
              <p:nvSpPr>
                <p:cNvPr id="183" name="Rectangle 150"/>
                <p:cNvSpPr/>
                <p:nvPr/>
              </p:nvSpPr>
              <p:spPr>
                <a:xfrm>
                  <a:off x="2426400" y="3109680"/>
                  <a:ext cx="175824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49"/>
                <p:cNvGrpSpPr/>
                <p:nvPr/>
              </p:nvGrpSpPr>
              <p:grpSpPr>
                <a:xfrm>
                  <a:off x="2426400" y="3109680"/>
                  <a:ext cx="1758240" cy="414360"/>
                  <a:chOff x="2426400" y="3109680"/>
                  <a:chExt cx="1758240" cy="414360"/>
                </a:xfrm>
              </p:grpSpPr>
              <p:sp>
                <p:nvSpPr>
                  <p:cNvPr id="185" name="Rectangle 107"/>
                  <p:cNvSpPr/>
                  <p:nvPr/>
                </p:nvSpPr>
                <p:spPr>
                  <a:xfrm>
                    <a:off x="2426400" y="3109680"/>
                    <a:ext cx="175824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354.7      mg/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148"/>
                  <p:cNvSpPr/>
                  <p:nvPr/>
                </p:nvSpPr>
                <p:spPr>
                  <a:xfrm>
                    <a:off x="2426400" y="3109680"/>
                    <a:ext cx="175824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" name="Group 153"/>
              <p:cNvGrpSpPr/>
              <p:nvPr/>
            </p:nvGrpSpPr>
            <p:grpSpPr>
              <a:xfrm>
                <a:off x="387360" y="3524400"/>
                <a:ext cx="2038680" cy="414360"/>
                <a:chOff x="387360" y="3524400"/>
                <a:chExt cx="2038680" cy="414360"/>
              </a:xfrm>
            </p:grpSpPr>
            <p:sp>
              <p:nvSpPr>
                <p:cNvPr id="188" name="Rectangle 108"/>
                <p:cNvSpPr/>
                <p:nvPr/>
              </p:nvSpPr>
              <p:spPr>
                <a:xfrm>
                  <a:off x="387360" y="3524400"/>
                  <a:ext cx="203868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Chlorides (Cl</a:t>
                  </a:r>
                  <a:r>
                    <a:rPr b="1" lang="en-GB" sz="1000" spc="-1" strike="noStrike" baseline="30000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-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52"/>
                <p:cNvSpPr/>
                <p:nvPr/>
              </p:nvSpPr>
              <p:spPr>
                <a:xfrm>
                  <a:off x="387360" y="3524400"/>
                  <a:ext cx="203868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55"/>
              <p:cNvGrpSpPr/>
              <p:nvPr/>
            </p:nvGrpSpPr>
            <p:grpSpPr>
              <a:xfrm>
                <a:off x="2426400" y="3524400"/>
                <a:ext cx="1758240" cy="414360"/>
                <a:chOff x="2426400" y="3524400"/>
                <a:chExt cx="1758240" cy="414360"/>
              </a:xfrm>
            </p:grpSpPr>
            <p:sp>
              <p:nvSpPr>
                <p:cNvPr id="191" name="Rectangle 109"/>
                <p:cNvSpPr/>
                <p:nvPr/>
              </p:nvSpPr>
              <p:spPr>
                <a:xfrm>
                  <a:off x="2426400" y="3524400"/>
                  <a:ext cx="175824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1.1          mg/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54"/>
                <p:cNvSpPr/>
                <p:nvPr/>
              </p:nvSpPr>
              <p:spPr>
                <a:xfrm>
                  <a:off x="2426400" y="3524400"/>
                  <a:ext cx="175824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59"/>
              <p:cNvGrpSpPr/>
              <p:nvPr/>
            </p:nvGrpSpPr>
            <p:grpSpPr>
              <a:xfrm>
                <a:off x="387360" y="3939120"/>
                <a:ext cx="2038680" cy="414360"/>
                <a:chOff x="387360" y="3939120"/>
                <a:chExt cx="2038680" cy="414360"/>
              </a:xfrm>
            </p:grpSpPr>
            <p:sp>
              <p:nvSpPr>
                <p:cNvPr id="194" name="Rectangle 158"/>
                <p:cNvSpPr/>
                <p:nvPr/>
              </p:nvSpPr>
              <p:spPr>
                <a:xfrm>
                  <a:off x="387360" y="3939120"/>
                  <a:ext cx="203868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157"/>
                <p:cNvGrpSpPr/>
                <p:nvPr/>
              </p:nvGrpSpPr>
              <p:grpSpPr>
                <a:xfrm>
                  <a:off x="387360" y="3939120"/>
                  <a:ext cx="2038680" cy="414360"/>
                  <a:chOff x="387360" y="3939120"/>
                  <a:chExt cx="2038680" cy="414360"/>
                </a:xfrm>
              </p:grpSpPr>
              <p:sp>
                <p:nvSpPr>
                  <p:cNvPr id="196" name="Rectangle 110"/>
                  <p:cNvSpPr/>
                  <p:nvPr/>
                </p:nvSpPr>
                <p:spPr>
                  <a:xfrm>
                    <a:off x="387360" y="3939120"/>
                    <a:ext cx="203868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 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Sulphates (SO</a:t>
                    </a:r>
                    <a:r>
                      <a:rPr b="1" lang="en-GB" sz="1000" spc="-1" strike="noStrike" baseline="-30000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4</a:t>
                    </a:r>
                    <a:r>
                      <a:rPr b="1" lang="en-GB" sz="1000" spc="-1" strike="noStrike" baseline="30000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-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156"/>
                  <p:cNvSpPr/>
                  <p:nvPr/>
                </p:nvSpPr>
                <p:spPr>
                  <a:xfrm>
                    <a:off x="387360" y="3939120"/>
                    <a:ext cx="203868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" name="Group 163"/>
              <p:cNvGrpSpPr/>
              <p:nvPr/>
            </p:nvGrpSpPr>
            <p:grpSpPr>
              <a:xfrm>
                <a:off x="2426400" y="3939120"/>
                <a:ext cx="1758240" cy="414360"/>
                <a:chOff x="2426400" y="3939120"/>
                <a:chExt cx="1758240" cy="414360"/>
              </a:xfrm>
            </p:grpSpPr>
            <p:sp>
              <p:nvSpPr>
                <p:cNvPr id="199" name="Rectangle 162"/>
                <p:cNvSpPr/>
                <p:nvPr/>
              </p:nvSpPr>
              <p:spPr>
                <a:xfrm>
                  <a:off x="2426400" y="3939120"/>
                  <a:ext cx="175824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161"/>
                <p:cNvGrpSpPr/>
                <p:nvPr/>
              </p:nvGrpSpPr>
              <p:grpSpPr>
                <a:xfrm>
                  <a:off x="2426400" y="3939120"/>
                  <a:ext cx="1758240" cy="414360"/>
                  <a:chOff x="2426400" y="3939120"/>
                  <a:chExt cx="1758240" cy="414360"/>
                </a:xfrm>
              </p:grpSpPr>
              <p:sp>
                <p:nvSpPr>
                  <p:cNvPr id="201" name="Rectangle 111"/>
                  <p:cNvSpPr/>
                  <p:nvPr/>
                </p:nvSpPr>
                <p:spPr>
                  <a:xfrm>
                    <a:off x="2426400" y="3939120"/>
                    <a:ext cx="175824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5.7          mg/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Rectangle 160"/>
                  <p:cNvSpPr/>
                  <p:nvPr/>
                </p:nvSpPr>
                <p:spPr>
                  <a:xfrm>
                    <a:off x="2426400" y="3939120"/>
                    <a:ext cx="175824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Group 165"/>
              <p:cNvGrpSpPr/>
              <p:nvPr/>
            </p:nvGrpSpPr>
            <p:grpSpPr>
              <a:xfrm>
                <a:off x="387360" y="4353840"/>
                <a:ext cx="2038680" cy="414360"/>
                <a:chOff x="387360" y="4353840"/>
                <a:chExt cx="2038680" cy="414360"/>
              </a:xfrm>
            </p:grpSpPr>
            <p:sp>
              <p:nvSpPr>
                <p:cNvPr id="204" name="Rectangle 112"/>
                <p:cNvSpPr/>
                <p:nvPr/>
              </p:nvSpPr>
              <p:spPr>
                <a:xfrm>
                  <a:off x="387360" y="4353840"/>
                  <a:ext cx="203868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Fluorides (F</a:t>
                  </a:r>
                  <a:r>
                    <a:rPr b="1" lang="en-GB" sz="1000" spc="-1" strike="noStrike" baseline="30000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-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164"/>
                <p:cNvSpPr/>
                <p:nvPr/>
              </p:nvSpPr>
              <p:spPr>
                <a:xfrm>
                  <a:off x="387360" y="4353840"/>
                  <a:ext cx="203868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67"/>
              <p:cNvGrpSpPr/>
              <p:nvPr/>
            </p:nvGrpSpPr>
            <p:grpSpPr>
              <a:xfrm>
                <a:off x="2426400" y="4353840"/>
                <a:ext cx="1758240" cy="414360"/>
                <a:chOff x="2426400" y="4353840"/>
                <a:chExt cx="1758240" cy="414360"/>
              </a:xfrm>
            </p:grpSpPr>
            <p:sp>
              <p:nvSpPr>
                <p:cNvPr id="207" name="Rectangle 113"/>
                <p:cNvSpPr/>
                <p:nvPr/>
              </p:nvSpPr>
              <p:spPr>
                <a:xfrm>
                  <a:off x="2426400" y="4353840"/>
                  <a:ext cx="175824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0.1          mg/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166"/>
                <p:cNvSpPr/>
                <p:nvPr/>
              </p:nvSpPr>
              <p:spPr>
                <a:xfrm>
                  <a:off x="2426400" y="4353840"/>
                  <a:ext cx="175824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71"/>
              <p:cNvGrpSpPr/>
              <p:nvPr/>
            </p:nvGrpSpPr>
            <p:grpSpPr>
              <a:xfrm>
                <a:off x="387360" y="4768920"/>
                <a:ext cx="2038680" cy="414360"/>
                <a:chOff x="387360" y="4768920"/>
                <a:chExt cx="2038680" cy="414360"/>
              </a:xfrm>
            </p:grpSpPr>
            <p:sp>
              <p:nvSpPr>
                <p:cNvPr id="210" name="Rectangle 170"/>
                <p:cNvSpPr/>
                <p:nvPr/>
              </p:nvSpPr>
              <p:spPr>
                <a:xfrm>
                  <a:off x="387360" y="4768920"/>
                  <a:ext cx="203868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Group 169"/>
                <p:cNvGrpSpPr/>
                <p:nvPr/>
              </p:nvGrpSpPr>
              <p:grpSpPr>
                <a:xfrm>
                  <a:off x="387360" y="4768920"/>
                  <a:ext cx="2038680" cy="414360"/>
                  <a:chOff x="387360" y="4768920"/>
                  <a:chExt cx="2038680" cy="414360"/>
                </a:xfrm>
              </p:grpSpPr>
              <p:sp>
                <p:nvSpPr>
                  <p:cNvPr id="212" name="Rectangle 114"/>
                  <p:cNvSpPr/>
                  <p:nvPr/>
                </p:nvSpPr>
                <p:spPr>
                  <a:xfrm>
                    <a:off x="387360" y="4768920"/>
                    <a:ext cx="203868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 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Iron (Fe</a:t>
                    </a:r>
                    <a:r>
                      <a:rPr b="1" lang="en-GB" sz="1000" spc="-1" strike="noStrike" baseline="30000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++</a:t>
                    </a: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tangle 168"/>
                  <p:cNvSpPr/>
                  <p:nvPr/>
                </p:nvSpPr>
                <p:spPr>
                  <a:xfrm>
                    <a:off x="387360" y="4768920"/>
                    <a:ext cx="203868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Group 175"/>
              <p:cNvGrpSpPr/>
              <p:nvPr/>
            </p:nvGrpSpPr>
            <p:grpSpPr>
              <a:xfrm>
                <a:off x="2426400" y="4768920"/>
                <a:ext cx="1758240" cy="414360"/>
                <a:chOff x="2426400" y="4768920"/>
                <a:chExt cx="1758240" cy="414360"/>
              </a:xfrm>
            </p:grpSpPr>
            <p:sp>
              <p:nvSpPr>
                <p:cNvPr id="215" name="Rectangle 174"/>
                <p:cNvSpPr/>
                <p:nvPr/>
              </p:nvSpPr>
              <p:spPr>
                <a:xfrm>
                  <a:off x="2426400" y="4768920"/>
                  <a:ext cx="1758240" cy="414360"/>
                </a:xfrm>
                <a:prstGeom prst="rect">
                  <a:avLst/>
                </a:prstGeom>
                <a:solidFill>
                  <a:srgbClr val="b9d8f7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173"/>
                <p:cNvGrpSpPr/>
                <p:nvPr/>
              </p:nvGrpSpPr>
              <p:grpSpPr>
                <a:xfrm>
                  <a:off x="2426400" y="4768920"/>
                  <a:ext cx="1758240" cy="414360"/>
                  <a:chOff x="2426400" y="4768920"/>
                  <a:chExt cx="1758240" cy="414360"/>
                </a:xfrm>
              </p:grpSpPr>
              <p:sp>
                <p:nvSpPr>
                  <p:cNvPr id="217" name="Rectangle 115"/>
                  <p:cNvSpPr/>
                  <p:nvPr/>
                </p:nvSpPr>
                <p:spPr>
                  <a:xfrm>
                    <a:off x="2426400" y="4768920"/>
                    <a:ext cx="1758240" cy="414360"/>
                  </a:xfrm>
                  <a:prstGeom prst="rect">
                    <a:avLst/>
                  </a:prstGeom>
                  <a:solidFill>
                    <a:srgbClr val="b9d8f7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Trebuchet MS"/>
                        <a:ea typeface="Arial Unicode MS"/>
                      </a:rPr>
                      <a:t>0.1          mg/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Rectangle 172"/>
                  <p:cNvSpPr/>
                  <p:nvPr/>
                </p:nvSpPr>
                <p:spPr>
                  <a:xfrm>
                    <a:off x="2426400" y="4768920"/>
                    <a:ext cx="1758240" cy="41436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9" name="Group 177"/>
              <p:cNvGrpSpPr/>
              <p:nvPr/>
            </p:nvGrpSpPr>
            <p:grpSpPr>
              <a:xfrm>
                <a:off x="387360" y="5183640"/>
                <a:ext cx="2038680" cy="414360"/>
                <a:chOff x="387360" y="5183640"/>
                <a:chExt cx="2038680" cy="414360"/>
              </a:xfrm>
            </p:grpSpPr>
            <p:sp>
              <p:nvSpPr>
                <p:cNvPr id="220" name="Rectangle 116"/>
                <p:cNvSpPr/>
                <p:nvPr/>
              </p:nvSpPr>
              <p:spPr>
                <a:xfrm>
                  <a:off x="387360" y="5183640"/>
                  <a:ext cx="203868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Undissociated (H</a:t>
                  </a:r>
                  <a:r>
                    <a:rPr b="1" lang="en-GB" sz="1000" spc="-1" strike="noStrike" baseline="-30000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2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SiO</a:t>
                  </a:r>
                  <a:r>
                    <a:rPr b="1" lang="en-GB" sz="1000" spc="-1" strike="noStrike" baseline="-30000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3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176"/>
                <p:cNvSpPr/>
                <p:nvPr/>
              </p:nvSpPr>
              <p:spPr>
                <a:xfrm>
                  <a:off x="387360" y="5183640"/>
                  <a:ext cx="203868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179"/>
              <p:cNvGrpSpPr/>
              <p:nvPr/>
            </p:nvGrpSpPr>
            <p:grpSpPr>
              <a:xfrm>
                <a:off x="2426400" y="5183640"/>
                <a:ext cx="1758240" cy="414360"/>
                <a:chOff x="2426400" y="5183640"/>
                <a:chExt cx="1758240" cy="414360"/>
              </a:xfrm>
            </p:grpSpPr>
            <p:sp>
              <p:nvSpPr>
                <p:cNvPr id="223" name="Rectangle 117"/>
                <p:cNvSpPr/>
                <p:nvPr/>
              </p:nvSpPr>
              <p:spPr>
                <a:xfrm>
                  <a:off x="2426400" y="5183640"/>
                  <a:ext cx="1758240" cy="41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br>
                    <a:rPr sz="1000"/>
                  </a:br>
                  <a:r>
                    <a:rPr b="1" lang="hr-HR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Trebuchet MS"/>
                      <a:ea typeface="Arial Unicode MS"/>
                    </a:rPr>
                    <a:t>4.2          mg/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178"/>
                <p:cNvSpPr/>
                <p:nvPr/>
              </p:nvSpPr>
              <p:spPr>
                <a:xfrm>
                  <a:off x="2426400" y="5183640"/>
                  <a:ext cx="1758240" cy="41436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183"/>
              <p:cNvGrpSpPr/>
              <p:nvPr/>
            </p:nvGrpSpPr>
            <p:grpSpPr>
              <a:xfrm>
                <a:off x="387360" y="5598360"/>
                <a:ext cx="2038680" cy="342000"/>
                <a:chOff x="387360" y="5598360"/>
                <a:chExt cx="2038680" cy="342000"/>
              </a:xfrm>
            </p:grpSpPr>
            <p:sp>
              <p:nvSpPr>
                <p:cNvPr id="226" name="Rectangle 182"/>
                <p:cNvSpPr/>
                <p:nvPr/>
              </p:nvSpPr>
              <p:spPr>
                <a:xfrm>
                  <a:off x="387360" y="5598360"/>
                  <a:ext cx="2038680" cy="342000"/>
                </a:xfrm>
                <a:prstGeom prst="rect">
                  <a:avLst/>
                </a:prstGeom>
                <a:solidFill>
                  <a:srgbClr val="99ccff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Group 181"/>
                <p:cNvGrpSpPr/>
                <p:nvPr/>
              </p:nvGrpSpPr>
              <p:grpSpPr>
                <a:xfrm>
                  <a:off x="387360" y="5598360"/>
                  <a:ext cx="2038680" cy="342000"/>
                  <a:chOff x="387360" y="5598360"/>
                  <a:chExt cx="2038680" cy="342000"/>
                </a:xfrm>
              </p:grpSpPr>
              <p:sp>
                <p:nvSpPr>
                  <p:cNvPr id="228" name="Rectangle 118"/>
                  <p:cNvSpPr/>
                  <p:nvPr/>
                </p:nvSpPr>
                <p:spPr>
                  <a:xfrm>
                    <a:off x="387360" y="5598360"/>
                    <a:ext cx="2038680" cy="342000"/>
                  </a:xfrm>
                  <a:prstGeom prst="rect">
                    <a:avLst/>
                  </a:prstGeom>
                  <a:solidFill>
                    <a:srgbClr val="99ccff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b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hr-HR" sz="1000" spc="-1" strike="noStrike">
                        <a:solidFill>
                          <a:srgbClr val="000000"/>
                        </a:solidFill>
                        <a:latin typeface="Trebuchet MS"/>
                      </a:rPr>
                      <a:t>Total mineralis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Rectangle 180"/>
                  <p:cNvSpPr/>
                  <p:nvPr/>
                </p:nvSpPr>
                <p:spPr>
                  <a:xfrm>
                    <a:off x="387360" y="5598360"/>
                    <a:ext cx="2038680" cy="34200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" name="Group 187"/>
              <p:cNvGrpSpPr/>
              <p:nvPr/>
            </p:nvGrpSpPr>
            <p:grpSpPr>
              <a:xfrm>
                <a:off x="2426400" y="5598360"/>
                <a:ext cx="1758240" cy="342000"/>
                <a:chOff x="2426400" y="5598360"/>
                <a:chExt cx="1758240" cy="342000"/>
              </a:xfrm>
            </p:grpSpPr>
            <p:sp>
              <p:nvSpPr>
                <p:cNvPr id="231" name="Rectangle 186"/>
                <p:cNvSpPr/>
                <p:nvPr/>
              </p:nvSpPr>
              <p:spPr>
                <a:xfrm>
                  <a:off x="2426400" y="5598360"/>
                  <a:ext cx="1758240" cy="342000"/>
                </a:xfrm>
                <a:prstGeom prst="rect">
                  <a:avLst/>
                </a:prstGeom>
                <a:solidFill>
                  <a:srgbClr val="99ccff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sk-SK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Group 185"/>
                <p:cNvGrpSpPr/>
                <p:nvPr/>
              </p:nvGrpSpPr>
              <p:grpSpPr>
                <a:xfrm>
                  <a:off x="2426400" y="5598360"/>
                  <a:ext cx="1758240" cy="342000"/>
                  <a:chOff x="2426400" y="5598360"/>
                  <a:chExt cx="1758240" cy="342000"/>
                </a:xfrm>
              </p:grpSpPr>
              <p:sp>
                <p:nvSpPr>
                  <p:cNvPr id="233" name="Rectangle 119"/>
                  <p:cNvSpPr/>
                  <p:nvPr/>
                </p:nvSpPr>
                <p:spPr>
                  <a:xfrm>
                    <a:off x="2426400" y="5598360"/>
                    <a:ext cx="1758240" cy="342000"/>
                  </a:xfrm>
                  <a:prstGeom prst="rect">
                    <a:avLst/>
                  </a:prstGeom>
                  <a:solidFill>
                    <a:srgbClr val="99ccff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b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hr-HR" sz="1000" spc="-1" strike="noStrike">
                        <a:solidFill>
                          <a:srgbClr val="000000"/>
                        </a:solidFill>
                        <a:latin typeface="Trebuchet MS"/>
                      </a:rPr>
                      <a:t>         </a:t>
                    </a:r>
                    <a:r>
                      <a:rPr b="1" lang="hr-HR" sz="1000" spc="-1" strike="noStrike">
                        <a:solidFill>
                          <a:srgbClr val="000000"/>
                        </a:solidFill>
                        <a:latin typeface="Trebuchet MS"/>
                      </a:rPr>
                      <a:t>464.4 mg/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tangle 184"/>
                  <p:cNvSpPr/>
                  <p:nvPr/>
                </p:nvSpPr>
                <p:spPr>
                  <a:xfrm>
                    <a:off x="2426400" y="5598360"/>
                    <a:ext cx="1758240" cy="342000"/>
                  </a:xfrm>
                  <a:prstGeom prst="rect">
                    <a:avLst/>
                  </a:prstGeom>
                  <a:noFill/>
                  <a:ln w="7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sk-SK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5" name="Rectangle 189"/>
            <p:cNvSpPr/>
            <p:nvPr/>
          </p:nvSpPr>
          <p:spPr>
            <a:xfrm>
              <a:off x="380880" y="1447920"/>
              <a:ext cx="3809520" cy="4495320"/>
            </a:xfrm>
            <a:prstGeom prst="rect">
              <a:avLst/>
            </a:prstGeom>
            <a:noFill/>
            <a:ln w="9525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sk-SK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92"/>
          <p:cNvSpPr/>
          <p:nvPr/>
        </p:nvSpPr>
        <p:spPr>
          <a:xfrm>
            <a:off x="4329000" y="1295280"/>
            <a:ext cx="4419360" cy="283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hr-HR" sz="1400" spc="-1" strike="noStrike">
                <a:solidFill>
                  <a:srgbClr val="6699ff"/>
                </a:solidFill>
                <a:latin typeface="Trebuchet MS"/>
              </a:rPr>
              <a:t>Jana prírodná minerálna voda obsahuje nízku koncentráciu sodíka a má ieálne vyvážený pomer minerálov, napríklad podiel Kalcia a Magnésia je v pomere 2:1, čo predstvauje odporúčaný denný pomer prijímu týchto minerálov. Preto je voda Jana ideálna pre doplnenie telových tekutí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hr-HR" sz="1600" spc="-1" strike="noStrike">
                <a:solidFill>
                  <a:srgbClr val="000000"/>
                </a:solidFill>
                <a:latin typeface="Trebuchet MS"/>
              </a:rPr>
              <a:t>Calcium : Magnesium = 2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hr-HR" sz="1600" spc="-1" strike="noStrike">
                <a:solidFill>
                  <a:srgbClr val="000000"/>
                </a:solidFill>
                <a:latin typeface="Trebuchet MS"/>
              </a:rPr>
              <a:t>PH level = 7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3"/>
          <p:cNvSpPr/>
          <p:nvPr/>
        </p:nvSpPr>
        <p:spPr>
          <a:xfrm>
            <a:off x="381960" y="991800"/>
            <a:ext cx="3495960" cy="63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828800"/>
                <a:tab algn="r" pos="3314880"/>
              </a:tabLst>
            </a:pPr>
            <a:r>
              <a:rPr b="1" lang="hr-HR" sz="1200" spc="-1" strike="noStrike">
                <a:solidFill>
                  <a:srgbClr val="6699ff"/>
                </a:solidFill>
                <a:latin typeface="Trebuchet MS"/>
                <a:ea typeface="Times New Roman"/>
              </a:rPr>
              <a:t>Mineral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828800"/>
                <a:tab algn="r" pos="3314880"/>
              </a:tabLst>
            </a:pPr>
            <a:r>
              <a:rPr b="1" lang="en-US" sz="1200" spc="-1" strike="noStrike">
                <a:solidFill>
                  <a:srgbClr val="6699ff"/>
                </a:solidFill>
                <a:latin typeface="Trebuchet MS"/>
                <a:ea typeface="Times New Roman"/>
              </a:rPr>
              <a:t>1 liter contains:</a:t>
            </a:r>
            <a:r>
              <a:rPr b="1" lang="en-US" sz="1200" spc="-1" strike="noStrike">
                <a:solidFill>
                  <a:srgbClr val="6699ff"/>
                </a:solidFill>
                <a:latin typeface="Trebuchet MS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6699ff"/>
                </a:solidFill>
                <a:latin typeface="Trebuchet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828800"/>
                <a:tab algn="r" pos="3314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D:\vedrana\Jana pics\JANA cert1 copy.jpg"/>
          <p:cNvPicPr/>
          <p:nvPr/>
        </p:nvPicPr>
        <p:blipFill>
          <a:blip r:embed="rId1"/>
          <a:srcRect l="17876" t="12801" r="10614" b="16965"/>
          <a:stretch/>
        </p:blipFill>
        <p:spPr>
          <a:xfrm>
            <a:off x="5638680" y="3809880"/>
            <a:ext cx="1982520" cy="26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1024"/>
          <p:cNvGraphicFramePr/>
          <p:nvPr/>
        </p:nvGraphicFramePr>
        <p:xfrm>
          <a:off x="4091040" y="5076720"/>
          <a:ext cx="4695480" cy="1456920"/>
        </p:xfrm>
        <a:graphic>
          <a:graphicData uri="http://schemas.openxmlformats.org/presentationml/2006/ole">
            <p:oleObj progId="AcroExch.Document.7" r:id="rId1" spid="">
              <p:embed/>
              <p:pic>
                <p:nvPicPr>
                  <p:cNvPr id="24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5076720"/>
                    <a:ext cx="4695480" cy="14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25"/>
          <p:cNvGraphicFramePr/>
          <p:nvPr/>
        </p:nvGraphicFramePr>
        <p:xfrm>
          <a:off x="304920" y="1523880"/>
          <a:ext cx="4514400" cy="3295440"/>
        </p:xfrm>
        <a:graphic>
          <a:graphicData uri="http://schemas.openxmlformats.org/presentationml/2006/ole">
            <p:oleObj progId="AcroExch.Document.7" r:id="rId3" spid="">
              <p:embed/>
              <p:pic>
                <p:nvPicPr>
                  <p:cNvPr id="243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45144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1030"/>
          <p:cNvSpPr/>
          <p:nvPr/>
        </p:nvSpPr>
        <p:spPr>
          <a:xfrm>
            <a:off x="4114800" y="1828800"/>
            <a:ext cx="4652640" cy="94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hr-HR" sz="1400" spc="-1" strike="noStrike">
                <a:solidFill>
                  <a:srgbClr val="000099"/>
                </a:solidFill>
                <a:latin typeface="Trebuchet MS"/>
              </a:rPr>
              <a:t>HYDRATI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sk-SK" sz="1400" spc="-1" strike="noStrike">
                <a:solidFill>
                  <a:srgbClr val="000099"/>
                </a:solidFill>
                <a:latin typeface="Trebuchet MS"/>
              </a:rPr>
              <a:t>Bez ohľadu na vek, nedostatok vody v tele spôsobuje vysúšanie a predčasné starnutie. Denný príjem vody je kľúčom k hydratácií tela zvnú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31" descr=""/>
          <p:cNvPicPr/>
          <p:nvPr/>
        </p:nvPicPr>
        <p:blipFill>
          <a:blip r:embed="rId5"/>
          <a:stretch/>
        </p:blipFill>
        <p:spPr>
          <a:xfrm>
            <a:off x="7261200" y="274680"/>
            <a:ext cx="1525320" cy="1168200"/>
          </a:xfrm>
          <a:prstGeom prst="rect">
            <a:avLst/>
          </a:prstGeom>
          <a:ln w="9525">
            <a:noFill/>
          </a:ln>
        </p:spPr>
      </p:pic>
      <p:sp>
        <p:nvSpPr>
          <p:cNvPr id="246" name="Rectangle 1033"/>
          <p:cNvSpPr/>
          <p:nvPr/>
        </p:nvSpPr>
        <p:spPr>
          <a:xfrm>
            <a:off x="228600" y="228600"/>
            <a:ext cx="78483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hr-HR" sz="2400" spc="-1" strike="noStrike">
                <a:solidFill>
                  <a:srgbClr val="0099ff"/>
                </a:solidFill>
                <a:latin typeface="Trebuchet MS"/>
              </a:rPr>
              <a:t>Jana &amp; HYDRAT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114800" y="1828800"/>
            <a:ext cx="4652640" cy="115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hr-HR" sz="1400" spc="-1" strike="noStrike">
                <a:solidFill>
                  <a:srgbClr val="000099"/>
                </a:solidFill>
                <a:latin typeface="Trebuchet MS"/>
              </a:rPr>
              <a:t>DETOXIK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sk-SK" sz="1400" spc="-1" strike="noStrike">
                <a:solidFill>
                  <a:srgbClr val="000099"/>
                </a:solidFill>
                <a:latin typeface="Trebuchet MS"/>
              </a:rPr>
              <a:t>Rýchly životná štýl, zlé stravovacie návyky a stres zaťažujú naše telo. Voda čistí a obnovuje rovnováhu preto je neoddeliteľnou súčasťou zdravého životného štý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28600" y="228600"/>
            <a:ext cx="78483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hr-HR" sz="2400" spc="-1" strike="noStrike">
                <a:solidFill>
                  <a:srgbClr val="0099ff"/>
                </a:solidFill>
                <a:latin typeface="Trebuchet MS"/>
              </a:rPr>
              <a:t>Jana &amp; DETOX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466640" cy="767880"/>
          </a:xfrm>
          <a:prstGeom prst="rect">
            <a:avLst/>
          </a:prstGeom>
          <a:ln w="9525">
            <a:noFill/>
          </a:ln>
        </p:spPr>
      </p:pic>
      <p:pic>
        <p:nvPicPr>
          <p:cNvPr id="251" name="Picture 6" descr="X:\DTP\4 Josipa\Jana_Balans i detox_za prezu\Detox za prezu\Jana_opslaga_detox_primjer opslge.jpg"/>
          <p:cNvPicPr/>
          <p:nvPr/>
        </p:nvPicPr>
        <p:blipFill>
          <a:blip r:embed="rId2"/>
          <a:stretch/>
        </p:blipFill>
        <p:spPr>
          <a:xfrm>
            <a:off x="457200" y="1981080"/>
            <a:ext cx="5067000" cy="342396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dt" idx="1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4114800" y="1828800"/>
            <a:ext cx="4652640" cy="94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hr-HR" sz="1400" spc="-1" strike="noStrike">
                <a:solidFill>
                  <a:srgbClr val="000099"/>
                </a:solidFill>
                <a:latin typeface="Trebuchet MS"/>
              </a:rPr>
              <a:t>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sk-SK" sz="1400" spc="-1" strike="noStrike">
                <a:solidFill>
                  <a:srgbClr val="000099"/>
                </a:solidFill>
                <a:latin typeface="Trebuchet MS"/>
              </a:rPr>
              <a:t>Zachovanie správnej hladiny príjmu vody je dôležité pre dobrú kondíciu a vzhľad. Dostatočný príjem vody každý deň prispieva k udržaniu našej vita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28600" y="228600"/>
            <a:ext cx="78483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hr-HR" sz="2400" spc="-1" strike="noStrike">
                <a:solidFill>
                  <a:srgbClr val="0099ff"/>
                </a:solidFill>
                <a:latin typeface="Trebuchet MS"/>
              </a:rPr>
              <a:t>Jana &amp;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487160" cy="685440"/>
          </a:xfrm>
          <a:prstGeom prst="rect">
            <a:avLst/>
          </a:prstGeom>
          <a:ln w="9525">
            <a:noFill/>
          </a:ln>
        </p:spPr>
      </p:pic>
      <p:pic>
        <p:nvPicPr>
          <p:cNvPr id="256" name="Picture 3" descr="X:\DTP\4 Josipa\Jana_Balans i detox_za prezu\Balans za prezu\Jana_opslaga_Balans_primjer opslge.jpg"/>
          <p:cNvPicPr/>
          <p:nvPr/>
        </p:nvPicPr>
        <p:blipFill>
          <a:blip r:embed="rId2"/>
          <a:stretch/>
        </p:blipFill>
        <p:spPr>
          <a:xfrm>
            <a:off x="457200" y="2286000"/>
            <a:ext cx="5128920" cy="346500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53416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Arial"/>
              </a:rPr>
              <a:t>Jana </a:t>
            </a:r>
            <a:r>
              <a:rPr b="0" lang="sk-SK" sz="2400" spc="-1" strike="noStrike">
                <a:solidFill>
                  <a:srgbClr val="003399"/>
                </a:solidFill>
                <a:latin typeface="Arial"/>
              </a:rPr>
              <a:t>– cieľ kampane, hlavná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BlokTextu 9"/>
          <p:cNvSpPr/>
          <p:nvPr/>
        </p:nvSpPr>
        <p:spPr>
          <a:xfrm>
            <a:off x="457200" y="1371600"/>
            <a:ext cx="8152920" cy="3740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k-SK" sz="1600" spc="-1" strike="noStrike">
                <a:solidFill>
                  <a:srgbClr val="0070c0"/>
                </a:solidFill>
                <a:latin typeface="Arial"/>
              </a:rPr>
              <a:t>Cieľová skupina: </a:t>
            </a:r>
            <a:r>
              <a:rPr b="1" lang="sk-SK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b0f0"/>
                </a:solidFill>
                <a:latin typeface="Arial"/>
              </a:rPr>
              <a:t>ženy od 15 – 45 rokov (hlavne), tehotne žen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k-SK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b0f0"/>
                </a:solidFill>
                <a:latin typeface="Arial"/>
              </a:rPr>
              <a:t>Muži vo veku 25-45 rokov a d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k-SK" sz="1600" spc="-1" strike="noStrike">
                <a:solidFill>
                  <a:srgbClr val="0070c0"/>
                </a:solidFill>
                <a:latin typeface="Arial"/>
              </a:rPr>
              <a:t>Hlavná idea: </a:t>
            </a:r>
            <a:r>
              <a:rPr b="0" lang="sk-SK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b0f0"/>
                </a:solidFill>
                <a:latin typeface="Arial"/>
              </a:rPr>
              <a:t>Dospelý človek by mal denne vypiť viac ako 1,5 litra vody za deň. Minerálne vody Jana  sú špecifické svojim zložením (funkčné benefity) vhodné aj pre tehotné ženy a dojčat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k-SK" sz="1600" spc="-1" strike="noStrike">
                <a:solidFill>
                  <a:srgbClr val="00b0f0"/>
                </a:solidFill>
                <a:latin typeface="Arial"/>
              </a:rPr>
              <a:t>Radi by sme oboznámili ľudí s vodou Jana a jej charakteristikou a pripomenuli ľuďom, že ľudské telo potrebuje na správne fungovanie vodu, ktorá je základným elementom normálneho a zdravého živo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sk-SK" sz="1600" spc="-1" strike="noStrike">
                <a:solidFill>
                  <a:srgbClr val="0070c0"/>
                </a:solidFill>
                <a:latin typeface="Arial"/>
              </a:rPr>
              <a:t>Kam by sme chceli vodu Jana umiestniť</a:t>
            </a:r>
            <a:r>
              <a:rPr b="0" lang="sk-SK" sz="1600" spc="-1" strike="noStrike">
                <a:solidFill>
                  <a:srgbClr val="00b0f0"/>
                </a:solidFill>
                <a:latin typeface="Arial"/>
              </a:rPr>
              <a:t>: kúpaliská, skrášľovacie salóny, módne salóny a prehliadky, festivaly, kúpaliská, kultúrne podujatia, vernisáže výstav, iné prestížne spoločenské udalosti (predaj i sponzo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29" descr="D:\vedrana\Jana pics\JANA cert1 copy.jpg"/>
          <p:cNvPicPr/>
          <p:nvPr/>
        </p:nvPicPr>
        <p:blipFill>
          <a:blip r:embed="rId1"/>
          <a:srcRect l="17876" t="12801" r="10614" b="16965"/>
          <a:stretch/>
        </p:blipFill>
        <p:spPr>
          <a:xfrm>
            <a:off x="6705720" y="4648320"/>
            <a:ext cx="15606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12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Jana –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čím osloví zákazní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BlokTextu 3"/>
          <p:cNvSpPr/>
          <p:nvPr/>
        </p:nvSpPr>
        <p:spPr>
          <a:xfrm>
            <a:off x="304920" y="1295280"/>
            <a:ext cx="845784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"/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Značka prírodných minerálnych vôd Jana je veľmi dobré známa 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všetkých slovenských a českých spotrebiteľov dovolenkujúcich v Chorváts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Jana – identická s jedným z najkrajších a najpoužívanejších krst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mien v ČR a na Slovens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Ľahká zapamätateľnosť, čistota a nadčasovosť znač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Pri vodách už neplatí pravidlo „čím viac bubliniek a minerálov, tým lepšie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Svedčí o tom i rastúci podiel nesýtených a dojčenských vôd na celkove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spotrebe balených vôd na slovenskom a českom maloobchodnom tr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358920" algn="just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Ochutené vody chutia - spotrebitelia tiež čoraz častejšie vložia do svoj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nákupného košíka ochutenú balenú vodu. Ochutené balené vody si naš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sk-SK" sz="1800" spc="-1" strike="noStrike">
                <a:solidFill>
                  <a:srgbClr val="0070c0"/>
                </a:solidFill>
                <a:latin typeface="Arial"/>
              </a:rPr>
              <a:t>svojho zákazníka a táto kategória rastie najdynamickejš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tív Office">
  <a:themeElements>
    <a:clrScheme name="Motív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tív Office">
  <a:themeElements>
    <a:clrScheme name="Motív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otív Office">
  <a:themeElements>
    <a:clrScheme name="Motív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  <Words>726</Words>
  <Paragraphs>2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/>
  <dc:description/>
  <dc:language>en-US</dc:language>
  <cp:lastModifiedBy>McCarter a.s.</cp:lastModifiedBy>
  <cp:lastPrinted>1601-01-01T00:00:00Z</cp:lastPrinted>
  <dcterms:modified xsi:type="dcterms:W3CDTF">2012-03-08T14:35:08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Prezentácia na obrazovke (4:3)</vt:lpwstr>
  </property>
  <property fmtid="{D5CDD505-2E9C-101B-9397-08002B2CF9AE}" pid="4" name="Slides">
    <vt:r8>13</vt:r8>
  </property>
  <property fmtid="{D5CDD505-2E9C-101B-9397-08002B2CF9AE}" pid="5" name="Version">
    <vt:r8>1</vt:r8>
  </property>
  <property fmtid="{D5CDD505-2E9C-101B-9397-08002B2CF9AE}" pid="6" name="_NewReviewCycle">
    <vt:lpwstr/>
  </property>
</Properties>
</file>